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4433-97CE-4C63-842A-DF2FE7490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823D-7E7A-46C7-A316-96E2A4DD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AA88-3E14-4F8B-95EE-89F15CCB9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147-1EBB-4D9B-BD43-A4D2DCDD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BE4E-CDE4-460F-8667-E228AF66B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093B-DA40-4DEE-BBA3-EFAF5952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6F39-0631-4BD8-8BFA-8AB0BDAD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2E8E3-C7B1-4481-ABCD-4F3152B8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7CFF-9DD5-48FC-BA3A-2830D13C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6FC8-680A-4D15-92A5-13F0E88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D028-13ED-4BE0-85B1-F7FC80A8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259-736F-4FCD-9879-4E85ABDF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EBE6-4812-457E-A60A-17CC57C3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2D8B-8439-44E4-807E-50B70AFC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C24C-73D3-4993-A370-08880B4C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9FE9-8B48-4399-8F2E-5D12AE0D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608C-8061-4913-B245-03904D39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1DDA-C51B-4B22-9562-28E8F48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C81F-DFDD-4F97-A566-47DAAD42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DFA1-2F10-468D-854B-AFB2A368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8D8-7F57-476D-B1A3-33198E67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675F-0AF7-4683-86EA-48BCE60B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888-D3D8-492B-9E31-2C1220D9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DF2B-E325-4B82-BEA4-0241C275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BB00C-0630-4AA6-8E90-E92E2CFA4CA0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3AB8-6CFB-45A7-8CCF-4B4BDEAAFD54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lassroom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alsh (200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the topic of discu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often control both content and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who may participate and w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udents take their cues from the teac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sk questions to which they know the answer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talk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modify their talk to lear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re responsible for managing the interaction that occ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ers’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(recitation) vs. dialogic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Mono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leads to an ‘authoritative discourse’ in which the teacher delivers a set of pre-packaged knowledge (Skidmore, 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Dia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offers an ‘emancipatory alternative’ (Lyle, 1998) so that knowledge is co-constructed and students’ experiences and interpretations are valued and explo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no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sel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ignores attempts by learners to introduce other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responses tend to be sh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ually there is only one correct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Nystrand, 199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s of I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’s the boy do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’ moves in natural conver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ancis and Hunston (1992) classify f move in terms of function e.g. ‘terminating’ or ‘endorsing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gre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ver mi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a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urns are evenly distributed between spea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takes fewer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F not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 responses build on previous students’ responses (‘chained’ Gutierrez, 199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self-se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and students negotiate sub-topics for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s exist for which there are no pre-specified correct answ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Nystrand, 200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nalysing Classroom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entify IRF p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at kinds of questions does the teacher 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o controls the tal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or dialog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mment on the quality of the teacher’s tal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ullen lists 5 effective feedback mo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Com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sponsiv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Arial"/>
              </a:rPr>
              <a:t>What does each mean and do you agree it is effecti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lanfm</cp:lastModifiedBy>
  <dcterms:modified xsi:type="dcterms:W3CDTF">2009-11-12T13:40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